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50F-B165-4055-AB2D-A9AE1EC7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140-1B2B-435F-8EC0-22F56AB7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7B8-AB70-4652-9288-E652D981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CCD-53EF-49BD-A401-2179786A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001-601A-4F76-B2BE-BC2CA944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56C-7C36-41F0-A705-DD2F116A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2D4-10E3-4CFF-85B7-F74B9D4F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88C-EB19-4922-BA78-45197DB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78E-B3C9-457E-B413-F5BF4416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4D2-CD1F-4E30-9717-72375D55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749-2CDD-48F1-9A93-B72E33A4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2EF-B08B-4412-A1BA-D66D1460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81BE-7677-46E4-80F3-1357BAB5FE0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0 Počuj našich prosieb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čuj našich prosieb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mohúci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jnosť darov v každý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e z tvojej dlane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aj tento manželský p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ým, čo im treba, obda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u, nádej posilň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ia láskou naplň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osti sľub stvrdzu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omto dome tvoj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ich, nech ti zbudu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m aj v srdci svoj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torom sám by rád si býv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dával, slzy stier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il svojou milosť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ich stálou radosť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ich kráčať život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a nasled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ohode aj v čase zl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ti dôve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deti vychová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žnym slúžiť, lásku dáv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ich dni sa pomin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im v tebe spočinú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01:35Z</dcterms:modified>
  <cp:revision>71</cp:revision>
  <dc:subject/>
  <dc:title>Je veľký náš Pán, on slávy je Kráľ Nech do všetkých strán  spev vrúcnych znie chvál.</dc:title>
</cp:coreProperties>
</file>